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41C54-744B-4732-BB95-0D7A6D7A5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itage is a tradition- passed down in the fami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693FB-D25A-4C80-AD4D-7A38754178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4F76-A422-49B6-8088-7F9796414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86C4-4D27-4E90-8374-A066B20EB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3D7F-3218-4BEB-B757-6C6CC8AB1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2E2F-298F-4A30-AA32-D21448A3A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B93C-6842-4B1E-B14A-D1FE0DE6C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FA5C-E9A7-4FC9-BAC6-98F98054B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2DAF-0E02-4968-8538-DBF2533A4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26AF-BC22-4CE1-8762-7B8D350E8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3F0D-CBBD-4EC5-A9BA-B53DF1FE4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3344-0BF2-4AC4-B872-2CEF2EA4B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4D40-4D5E-4159-9FF3-90285937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B428-CD3D-468A-B9D8-A0B6FDE9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2C850-35F8-4D4E-84FA-A25270DE7A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mily Cultures and Tradi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http://farm1.static.flickr.com/3/4418361_716337298a.jpg"/>
          <p:cNvPicPr/>
          <p:nvPr/>
        </p:nvPicPr>
        <p:blipFill>
          <a:blip r:embed="rId1"/>
          <a:stretch/>
        </p:blipFill>
        <p:spPr>
          <a:xfrm>
            <a:off x="1143000" y="685800"/>
            <a:ext cx="7010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http://www.wm.edu/as/internationalrelations/images/news/rob_camel.jpg"/>
          <p:cNvPicPr/>
          <p:nvPr/>
        </p:nvPicPr>
        <p:blipFill>
          <a:blip r:embed="rId1"/>
          <a:stretch/>
        </p:blipFill>
        <p:spPr>
          <a:xfrm>
            <a:off x="2133720" y="609480"/>
            <a:ext cx="464796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are people alike and differe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http://www.slcgov.com/Arts/livingtraditions/2007/images/lac_viet_band.jpg"/>
          <p:cNvPicPr/>
          <p:nvPr/>
        </p:nvPicPr>
        <p:blipFill>
          <a:blip r:embed="rId1"/>
          <a:stretch/>
        </p:blipFill>
        <p:spPr>
          <a:xfrm>
            <a:off x="1447920" y="1143000"/>
            <a:ext cx="59641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http://www.crazycrow.com/images/mens-grass-dance-18-650x433.jpg"/>
          <p:cNvPicPr/>
          <p:nvPr/>
        </p:nvPicPr>
        <p:blipFill>
          <a:blip r:embed="rId1"/>
          <a:stretch/>
        </p:blipFill>
        <p:spPr>
          <a:xfrm>
            <a:off x="685800" y="609480"/>
            <a:ext cx="76644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http://www.jollyks.com/images/image/homepage.jpg"/>
          <p:cNvPicPr/>
          <p:nvPr/>
        </p:nvPicPr>
        <p:blipFill>
          <a:blip r:embed="rId1"/>
          <a:stretch/>
        </p:blipFill>
        <p:spPr>
          <a:xfrm>
            <a:off x="1066680" y="762120"/>
            <a:ext cx="6855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http://www.conservativesforamerica.com/wp-content/uploads/3c8b8__fourth-of-july-parade-sitters.jpg"/>
          <p:cNvPicPr/>
          <p:nvPr/>
        </p:nvPicPr>
        <p:blipFill>
          <a:blip r:embed="rId1"/>
          <a:stretch/>
        </p:blipFill>
        <p:spPr>
          <a:xfrm>
            <a:off x="1295280" y="990720"/>
            <a:ext cx="624852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 you learn about your culture and heritag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do you know about your culture and heritag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your family have tradit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http://blog.vcu.edu/arts/Montessori-Students.jpg"/>
          <p:cNvPicPr/>
          <p:nvPr/>
        </p:nvPicPr>
        <p:blipFill>
          <a:blip r:embed="rId1"/>
          <a:stretch/>
        </p:blipFill>
        <p:spPr>
          <a:xfrm>
            <a:off x="1676520" y="1066680"/>
            <a:ext cx="5943600" cy="44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chinese-new-year-dragon-dance"/>
          <p:cNvPicPr/>
          <p:nvPr/>
        </p:nvPicPr>
        <p:blipFill>
          <a:blip r:embed="rId1"/>
          <a:stretch/>
        </p:blipFill>
        <p:spPr>
          <a:xfrm>
            <a:off x="609480" y="457200"/>
            <a:ext cx="7467840" cy="56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http://xaxor.com/images/Various-people-and-cultures-around-the-world-part2-/Various-people-and-cultures-around-the-world-part2-11.jpg"/>
          <p:cNvPicPr/>
          <p:nvPr/>
        </p:nvPicPr>
        <p:blipFill>
          <a:blip r:embed="rId1"/>
          <a:stretch/>
        </p:blipFill>
        <p:spPr>
          <a:xfrm>
            <a:off x="304920" y="304920"/>
            <a:ext cx="866448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0" descr="http://artsyspot.com/img01/marriage-tradition-around-the-world01.jpg"/>
          <p:cNvPicPr/>
          <p:nvPr/>
        </p:nvPicPr>
        <p:blipFill>
          <a:blip r:embed="rId1"/>
          <a:stretch/>
        </p:blipFill>
        <p:spPr>
          <a:xfrm>
            <a:off x="838080" y="838080"/>
            <a:ext cx="76392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does the word culture mea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does heritage mea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6" descr="http://www.jerusalembaskets.com/uploads/Hanukkah_theme_5.jpg"/>
          <p:cNvPicPr/>
          <p:nvPr/>
        </p:nvPicPr>
        <p:blipFill>
          <a:blip r:embed="rId1"/>
          <a:stretch/>
        </p:blipFill>
        <p:spPr>
          <a:xfrm>
            <a:off x="1523880" y="609480"/>
            <a:ext cx="53341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3" descr="http://www.worldofchristmas.net/gifs/christmas-tree.jpg"/>
          <p:cNvPicPr/>
          <p:nvPr/>
        </p:nvPicPr>
        <p:blipFill>
          <a:blip r:embed="rId1"/>
          <a:stretch/>
        </p:blipFill>
        <p:spPr>
          <a:xfrm>
            <a:off x="2057400" y="533520"/>
            <a:ext cx="5257800" cy="57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9" descr="http://imgs.sfgate.com/c/pictures/2009/04/23/ns-family30_folk_0500051841.jpg"/>
          <p:cNvPicPr/>
          <p:nvPr/>
        </p:nvPicPr>
        <p:blipFill>
          <a:blip r:embed="rId1"/>
          <a:stretch/>
        </p:blipFill>
        <p:spPr>
          <a:xfrm>
            <a:off x="304920" y="457200"/>
            <a:ext cx="84740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4:01:59Z</dcterms:created>
  <dc:creator>127paynem</dc:creator>
  <dc:description/>
  <dc:language>en-US</dc:language>
  <cp:lastModifiedBy>127paynem</cp:lastModifiedBy>
  <dcterms:modified xsi:type="dcterms:W3CDTF">2011-11-02T14:18:17Z</dcterms:modified>
  <cp:revision>3</cp:revision>
  <dc:subject/>
  <dc:title>Family Cultures and Traditions</dc:title>
</cp:coreProperties>
</file>